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3AA-351E-404C-BE1C-74EC9120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131-6D59-473C-8337-9FB926E3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2449-50AB-4EA0-8B0A-EEA642E5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308-0735-4DFD-82D6-3183543A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6D7-BBCF-45A7-8BEA-7D6F11EE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400-1B65-4C5D-B476-ED1DBFD2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578-07EA-424F-8BB8-326CF12E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C8D-BF6D-4C1E-9E26-061C7EF1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27A-1C56-45E7-97ED-B4EE3283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D67-106F-4DD8-AB09-F8F76088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11E-CE04-49EB-BC6A-9F62B807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872-B795-436A-8E82-729CEC02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73DE-FDA4-40E3-8714-7A15D7393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044nr1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675480" cy="636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069320" y="727200"/>
            <a:ext cx="208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nt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b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ust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s Tichel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44840" y="187200"/>
            <a:ext cx="3713760" cy="2741760"/>
            <a:chOff x="3444840" y="187200"/>
            <a:chExt cx="3713760" cy="2741760"/>
          </a:xfrm>
        </p:grpSpPr>
        <p:pic>
          <p:nvPicPr>
            <p:cNvPr id="44" name="reinerS" descr="reinier s"/>
            <p:cNvPicPr/>
            <p:nvPr/>
          </p:nvPicPr>
          <p:blipFill>
            <a:blip r:embed="rId2">
              <a:lum contrast="12000"/>
            </a:blip>
            <a:stretch/>
          </p:blipFill>
          <p:spPr>
            <a:xfrm>
              <a:off x="3444840" y="1872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630480" y="2408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5791320" y="6858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K045nr13lang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95160" y="640080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5nr13lang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K046nr13lang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90120" y="64008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6nr13lang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K047nr13lkortmid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93360" y="6400800"/>
            <a:ext cx="22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7nr13kort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K048nr13lkorttop" descr=""/>
          <p:cNvPicPr/>
          <p:nvPr/>
        </p:nvPicPr>
        <p:blipFill>
          <a:blip r:embed="rId1"/>
          <a:stretch/>
        </p:blipFill>
        <p:spPr>
          <a:xfrm>
            <a:off x="1257480" y="274680"/>
            <a:ext cx="6629400" cy="63086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98400" y="640080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048nr13kort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9840" y="685800"/>
            <a:ext cx="8718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i Dion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k antwoord wel erg laat, sorry. Ik had gehoopt je voor m'n vakant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morgen tot 1 sept0 te kunnen verblijden met mooie plaatjes, maar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elaas niet gelukt voor alle tubes. Ik heb wel geprobeerd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ere tubes op een grid om de instellingen bij 80 kV goed 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rijgen. Het gaat inderdaad veel beter bij 80 kV. Ik heb bijgeslo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atjes van tube nr.13 (blijken er meer dan 1 te zijn!). De scha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erg ongeveer want de TEM is nog niet gecalibreerd bij 80 kV. Be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om de wallspatie als calibratie te gebruik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raag: hebben jullie tubes (single wall of daar dicht bij) op 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straat die we er af kunnen schrapen op een C vlies met gaten? D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ou ons helpen met een ander onderzoek naar de struktuur van tub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iteraard ga ik als ik terug komeerst jouw tubes afbeeld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ten Fr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629080" y="1738440"/>
            <a:ext cx="388620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10:58:19Z</dcterms:created>
  <dc:creator>Dionne</dc:creator>
  <dc:description/>
  <dc:language>en-US</dc:language>
  <cp:lastModifiedBy>Dionne</cp:lastModifiedBy>
  <dcterms:modified xsi:type="dcterms:W3CDTF">2003-08-06T11:14:31Z</dcterms:modified>
  <cp:revision>5</cp:revision>
  <dc:subject/>
  <dc:title>PowerPoint Presentation</dc:title>
</cp:coreProperties>
</file>